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20C45-9CD2-4F7A-ADAC-CF814FD53D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21A1-7A73-4B81-84B7-1F46506E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E1604-F934-4839-9202-C38F072A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F91E-E02C-4070-802F-C9258AAA2A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0E97-386B-4A32-B053-A55D0746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A7A0B-64A7-49DB-9219-52AE4541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0976-3A97-4341-B2DF-F61F2DE4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AACC-1143-4C0C-B94D-8F9D1852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7520"/>
            <a:ext cx="8226360" cy="73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4984-88BE-4B42-A0C9-781B1B90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736AE-115D-497C-85E4-86B433EB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7E30-FEAB-4EA9-8509-12F871C6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197A-1E00-4B08-AC7A-839E443C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2628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D1B80-7A69-4363-8D54-5866F157E1BF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Il VI Congresso Mond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’associazione si compone di 46 associazioni/ordini profession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385.000 professionist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Ad oggi rappresenta 4 continen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e lingue ufficiali sono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nglese – Spagnolo – France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Il Board </a:t>
            </a:r>
            <a:r>
              <a:rPr b="0" i="1" lang="es-ES" sz="1800" spc="-1" strike="noStrike">
                <a:solidFill>
                  <a:srgbClr val="ff0000"/>
                </a:solidFill>
                <a:latin typeface="Calibri"/>
              </a:rPr>
              <a:t> 2012‐2015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María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ruz Díaz Álvarez, España ‐ Presidente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onrad Ulric Bernier, Canada ‐ Vicepresidente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Sean Gaule, Irlanda ‐ Vicepresidente del Continente Europa; Alejandro Luis Bonadeo, de Argentina ‐ </a:t>
            </a: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Vicepresidente del Continente América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Claudio Enrique Manuel Ortiz Rojas, Cile,  Luis Fernando Zuloaga Albarrán, México - Vicepresidenti del Continente  Africa, Asia e Oceaní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arlos Pieta Filho, Brasile ‐ Past Presid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Rosario García Moreno, Spagna‐ Segretario Gener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Florindo Dalberto, Brasile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Bernal Méndez Arias, Costa Rica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Andrea Sisti, Italia ‐ 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La professione dell’agronomo per la responsabilità sociale nello sviluppo sostenibile nel rispetto della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TAPPE DI AVVICINAME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d2db9"/>
                </a:solidFill>
                <a:latin typeface="Arial"/>
                <a:ea typeface="Arial"/>
              </a:rPr>
              <a:t>Settembre 2011 – L’idea di partecipare al V congresso Mondiale in Quebec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Febbraio 2012 - L’Adesione a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Maggio 2012 - La presentazione della candidatura al Presiden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Settembre 2012 – La Partecipazione al V Congresso Mondiale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7f7f7f"/>
                </a:solidFill>
                <a:latin typeface="Calibri"/>
              </a:rPr>
              <a:t>Settembre 2012 – L’assegnazione dell’Organizzazione del VI Congresso Mondia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Arial"/>
                <a:ea typeface="Arial"/>
              </a:rPr>
              <a:t>Le idee  - Il CIB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Il cibo rappresenta oggi un simbolo della società modern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a5a5e9"/>
                </a:solidFill>
                <a:latin typeface="Arial"/>
                <a:ea typeface="Arial"/>
              </a:rPr>
              <a:t>È un indicatore dello stato di salute di un popolo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9973"/>
                </a:solidFill>
                <a:latin typeface="Arial"/>
                <a:ea typeface="Arial"/>
              </a:rPr>
              <a:t>È un indicatore del grado di libertà e di accesso alla democrazi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La sua disponibilità è in alcuni paesi limitata se non scars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Arial"/>
                <a:ea typeface="Arial"/>
              </a:rPr>
              <a:t>La sua disponibilità dipende in modo significativo e relazionale dalla produzione agricol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  <a:ea typeface="Arial"/>
              </a:rPr>
              <a:t>La sua qualità dipende dalla produzione agricola e dalla capacità di trasformazione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L’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L’identità dei cibi su scala mondiale è semplificata e gloabalizza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L’industria alimentare e la distribuzione di massa ha individuato per ogni continente un cibo tipo che viene somministrato come tipicità tradizionale ma senza legame con il territorio di origi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La produzione agricola  per la produzione di cibo è stata semplificata sia dal punto di vista genetico che territoriale paesaggist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Solo quindici specie vegetali vengono utilizzate per soddisfare il 75 % delle calorie che occorrono per la popolazione mondiale e solo 3 ne rappresenta il 75% (Riso – Mais –Grano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siste una relazione qualità del cibo ed identità delle comun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06060"/>
                </a:solidFill>
                <a:latin typeface="Arial"/>
                <a:ea typeface="Arial"/>
              </a:rPr>
              <a:t>Esiste una relazione tra pratiche agrcole ed indetità dei paesagg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siste una relazione tra produzione di cibo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siste una relazione scarto alimentare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Esiste una relazione tra progettazione dei sistemi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siste una relazione tra uso delle risorse, cibo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Ogni professionista agronomo nel mondo ha sviluppato una sua esperienz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Ogni professionista agronomo ha rapporti con comunità locali ed ha promosso iniziative per lo sviluppo loc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Ogni professionista agronomo ha sviluppatto nelle diverse comunità locali delle pratiche agricole per la produzione di cib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Ogni professionista agronomo ha sviluppato progetti che hanno modificato in modo più o meno significativo l’identità dei paesaggi loc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olo un’esigua parte dei 385.000 professionisti potrà partecipare direttamente al Congresso e quindi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Occorre favorire la partecipazione attiva anche attraverso i mezzi informatic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Occorre premiare le migliori pratiche che consentono l’equilibrio tra identità e produzione di cibo delle comunità local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Il Congresso sarà strettamente lega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Nella fase di avvicinamento promuoveremo e stimoleremo la comunità degli agronomi a presentare idee e progett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Ogni comunità di agronomi si dovrà relazionare con il proprio paese per poi sviluppare attraverso l’AMIA l’esposizione della best pratice o dell’innov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Arial"/>
                <a:ea typeface="Arial"/>
              </a:rPr>
              <a:t>Ogni comunità regionale dovrà sviluppare cooper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Ide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professione dell’agronomo per la responsabilità sociale nello sviluppo sostenibile nella 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Arial"/>
                <a:ea typeface="Arial"/>
              </a:rPr>
              <a:t>Il Congresso si articolare in 3 sessioni plenarie con l’esposizione di 12 position pap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Il Congresso verrà animato da 6 forum in rete che consentiranno la partecipazione interattiva degli agronomi di tutti I continent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Arial"/>
                <a:ea typeface="Arial"/>
              </a:rPr>
              <a:t>I forum verranno attivati in rete attraverso dei blog che partiranno nella fase preliminar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9973"/>
                </a:solidFill>
                <a:latin typeface="Arial"/>
                <a:ea typeface="Arial"/>
              </a:rPr>
              <a:t>I blog avranno dei format dedicati per valutare la qualità della propos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92d050"/>
                </a:solidFill>
                <a:latin typeface="Arial"/>
                <a:ea typeface="Arial"/>
              </a:rPr>
              <a:t>Il Congresso si concluderà con una declaratoria ed una carta dell’agronomo mondiale</a:t>
            </a: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I TEMI DEI FORU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Biodiversità e miglioramento genetic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Perpetua Titling MT"/>
                <a:ea typeface="Arial"/>
              </a:rPr>
              <a:t>Sostenibilità e Produttiv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Perpetua Titling MT"/>
                <a:ea typeface="Arial"/>
              </a:rPr>
              <a:t>Sviluppo ed identità loc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Gill Sans Ultra Bold"/>
                <a:ea typeface="Arial"/>
              </a:rPr>
              <a:t>Alimentazione e scarti alimentar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 BLANCA"/>
                <a:ea typeface="Arial"/>
              </a:rPr>
              <a:t>Cultura progettuale e responsabilità soc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d2db9"/>
                </a:solidFill>
                <a:latin typeface="AR BONNIE"/>
                <a:ea typeface="Arial"/>
              </a:rPr>
              <a:t>Cambiamenti climatici e territorio di produzion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Entro il 30 marzo – Presentazione programma al Board de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15 aprile conferenza stampa per la presentazione del nuovo portale dell’AMI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30 Aprile presentazione del programma alla FA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ntro il 30 giugno presentazione del programma alle Ambasciate estere in ital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ntro il  30 settembre presentazione del proget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ntro il 30 settembre avvio del portale del Congresso Mondi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Entro il 30 ottobre partecipazione al Congresso Panamerican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26"/>
                </a:solidFill>
                <a:latin typeface="Arial"/>
                <a:ea typeface="Arial"/>
              </a:rPr>
              <a:t>11 e 12 Novembre – Congresso Europeo agronom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Da Gennaio ad aprile preparazione dei materiali e degli strumenti di comunicazione con realizzazione di eventi di approfondiment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Da maggio a settembre partecipazione ad EXP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14-18 Settembre VI Congresso Mondia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 Partecipanti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urop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talia                           8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ltri Paesi europei   1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del Nord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Latina    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ceania                      5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frica                         2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ia                           3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Associazion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"/>
                <a:ea typeface="Arial"/>
              </a:rPr>
              <a:t>L'Associazione Mondiale degli Agronomi, conosciuta come AMIA, è stata fondata da rappresentanti di trenta Paesi l'8 settembre 1994 a Santiago del Cile, a seguito del primo Congresso Mondiale degli Professionisti in Agronomi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Obiettivi dell’associ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Calibri"/>
              </a:rPr>
              <a:t>Unificare, coordinare e rappresentare tutte le associazioni degli agronomi  del mondo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2d2db9"/>
                </a:solidFill>
                <a:latin typeface="Calibri"/>
              </a:rPr>
              <a:t>Promuovere la pratica di tale professione, la sua eccellenza accademica ed etica professionale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romuovere lo sviluppo sociale ed economico del settore rurale e rappresentando i «diritti agrari» nelle sedi internazionali e nei governi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SEDE DELL’ASSOCIAZIO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La sede dell’associazione è presso la Città del Paese del Presidente in caric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Attualmente è in Madrid fino al 201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I MEMBRI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Nacional de Ing. Agrónomos Españ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anamericana de Ingenieros Agr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ar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ó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de Ingenieros Agrónomos del Para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Ingenieros Agrónomos del Uru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--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–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MMFFI --Ind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NAPO ––Boliv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PRINCO --Paraguay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EDIA --European Confederation of Agronomists Association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Buenos Aires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 Agrónomos de Santa  Fé—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ta. Rosa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 Agrónomos de 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Costa R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an  José--Costa Ric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de Ingenieros Agrónomos de Per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–Puerto Rico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Panamá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Hondur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Guatemal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Ecu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ónomos de Nicaragu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ostgraduados –Me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. de  Agronomía  de Entre de Rios -Argent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  en  Ciencias Agricolas de Hondur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Oficial de Ing. Agr. de Centro y Canari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Profesional de Ing. Agr. de Entre Rios –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federacion Nacional Agronómic 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MMYT ––Gana , Ken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REN CORFO ––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CYT --El Salv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Emater--RO/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çao de Engenheiros, Agrônomos do 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ción de Argentina Ingenería Agronom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Federacióón de Ingenieros Agrónomos de Colomb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Governo do Estado de Rondônia 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liveira, José Ribama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ICA --Santiago ––Chil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nstituto Agronômico do Paraná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Dalberto, Florindo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rdre des Agronomes du Québec – Canad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F – Consiglio Nazionale dei dottori agronomi e dei dottori forest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</dc:creator>
  <dc:description/>
  <dc:language>en-US</dc:language>
  <cp:lastModifiedBy>andrea sisti</cp:lastModifiedBy>
  <dcterms:modified xsi:type="dcterms:W3CDTF">2014-03-14T17:46:43Z</dcterms:modified>
  <cp:revision>25</cp:revision>
  <dc:subject/>
  <dc:title>Diapositiva 1</dc:title>
</cp:coreProperties>
</file>